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CF4A-1FFB-44B9-9573-ADA734DC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5080" y="306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5080" y="398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8FE1-5A00-4117-8A53-6EF2BCE2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5080" y="306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040" y="306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5080" y="398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040" y="398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F6B-0DA2-402D-8D2D-0FF215BF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5080" y="306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306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3360" y="306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5080" y="398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398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3360" y="398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D38-C466-47D1-B52E-45647AEE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1CD6-D257-4D89-A431-E507A226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50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9B1C-4778-4718-8308-47B12918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50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2D55-38BE-4855-B8C1-A6FA9B11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5080" y="3068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040" y="3068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095E-C714-4208-B0BB-52395C5B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842F-EFC4-4954-A6D3-717971AA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1341360"/>
            <a:ext cx="712476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A24F-56BB-4DA6-B010-51189DDD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5080" y="306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040" y="3068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5080" y="398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FD16-891E-4024-9E0E-B42E4728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50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2EDE-280E-45DE-A1A7-EF60CB2D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5080" y="3068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040" y="306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040" y="398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3BED-1053-43AC-A41D-4A72644B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5080" y="306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040" y="306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5080" y="398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E5D3-6FE6-4296-947F-698CD163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5080" y="306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5080" y="398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FEB7-AB8E-4679-8860-C11ACB2E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5080" y="306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040" y="306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5080" y="398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040" y="398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3AC8-B51D-4908-9785-DDF5A2B2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5080" y="306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040" y="306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33360" y="306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5080" y="398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040" y="398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33360" y="398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B308-DBBE-44F9-BBB3-2152FA88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50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953-02A6-4498-BAA9-31EAB9CF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5080" y="3068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040" y="3068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890-0FAF-41D8-91C5-891031A8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5C7-FD98-4E53-9223-BF3D4FD8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1341360"/>
            <a:ext cx="712476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86A-B6C1-4115-86A9-5DCFFC46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5080" y="306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040" y="3068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5080" y="398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F47-917E-4DF6-9F55-158D6AD9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5080" y="3068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040" y="306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040" y="398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568-61B9-4B69-9C99-9E0574A6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5080" y="306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040" y="306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5080" y="398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36B-DBC1-48C6-BECB-90903436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6360" y="1886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48608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205C-1DE6-42BE-8E08-F08BF3FD06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87F2-1344-4A71-A6EA-486F89EEC8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 Black"/>
              </a:rPr>
              <a:t>我生命中的五样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50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1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 Black"/>
              </a:rPr>
              <a:t>感恩的心</a:t>
            </a:r>
            <a:br>
              <a:rPr sz="5400"/>
            </a:br>
            <a:br>
              <a:rPr sz="5400"/>
            </a:b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http://www.depression.edu.hk/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6360" y="1886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74760" y="262080"/>
            <a:ext cx="8532720" cy="57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Rounded MT Bold"/>
              </a:rPr>
              <a:t>先拿出一张白纸，洁白无瑕，没有格子，没有折痕。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Rounded MT Bold"/>
              </a:rPr>
              <a:t>放松</a:t>
            </a:r>
            <a:r>
              <a:rPr b="1" lang="zh-CN" sz="4400" spc="-1" strike="noStrike">
                <a:solidFill>
                  <a:srgbClr val="000000"/>
                </a:solidFill>
                <a:latin typeface="Arial Rounded MT Bold"/>
              </a:rPr>
              <a:t>........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Rounded MT Bold"/>
              </a:rPr>
              <a:t>准备好后，在白纸顶端，一笔一画，写下“ＸＸＸ的五样”。这个ＸＸＸ就是你的名字。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6360" y="1886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74760" y="148608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 Rounded MT Bold"/>
              </a:rPr>
              <a:t>现在，请你用黑色的笔在雪白的纸上，飞快地写下你生命中最重要的五样东西。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6360" y="1886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4760" y="477360"/>
            <a:ext cx="8532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Rounded MT Bold"/>
              </a:rPr>
              <a:t>这五样东西，可以是实在的物体，比如食物、水或钱；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Rounded MT Bold"/>
              </a:rPr>
              <a:t>也可以是人和动物，比如父母、妻子、儿女、丈夫或狗。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Rounded MT Bold"/>
              </a:rPr>
              <a:t>可以是精神的追求，比如宗教或理想；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Rounded MT Bold"/>
              </a:rPr>
              <a:t>也可以是爱好和习惯，比如旅游、音乐或吃素。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6360" y="1886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4760" y="333360"/>
            <a:ext cx="853272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Rounded MT Bold"/>
              </a:rPr>
              <a:t>可以是抽象的事物，比如祖国或哲学；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Rounded MT Bold"/>
              </a:rPr>
              <a:t>也可以是具体的物品，比如一个瓷瓶或一组邮票。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Rounded MT Bold"/>
              </a:rPr>
              <a:t>总之，你尽可以天马行空地想像，只要把你内心最珍贵的五样东西写出来就是了。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6360" y="1886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4760" y="148608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Rounded MT Bold"/>
              </a:rPr>
              <a:t>不必思来想去，左右斟酌。脑海里涌出什么念头，就提笔把它写下。最先涌出的想法，必有它存在的深刻理由，如实记载即可。不必考虑顺序，排名不分先后，既不按ＡＢＣＤ，也不按姓氏笔画。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6360" y="1886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74760" y="836280"/>
            <a:ext cx="8532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Rounded MT Bold"/>
              </a:rPr>
              <a:t>糟糕！你的生活中出了一点意外。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Rounded MT Bold"/>
              </a:rPr>
              <a:t>怎么办？生命中最宝贵的五样，保不住了。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Rounded MT Bold"/>
              </a:rPr>
              <a:t>你要舍去一样。请你拿起笔，把五样之中的某一样抹去。你要用黑墨水，将样东西缓缓地，但是毫不留情地涂掉。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Rounded MT Bold"/>
              </a:rPr>
              <a:t>在这个过程中，请你细细体察丧失之感所引发的痛楚。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532720" cy="58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Rounded MT Bold"/>
              </a:rPr>
              <a:t>人生的曲折小径中，有很多意外潜伏在那里。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Rounded MT Bold"/>
              </a:rPr>
              <a:t>接二连三的变故，每一次你都不得不放弃你最珍爱的“五样”中的一样东西。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Rounded MT Bold"/>
              </a:rPr>
              <a:t>你必须眼睁睁地看着它们变为四样、三样、两样</a:t>
            </a:r>
            <a:r>
              <a:rPr b="1" lang="zh-CN" sz="3600" spc="-1" strike="noStrike">
                <a:solidFill>
                  <a:srgbClr val="000000"/>
                </a:solidFill>
                <a:latin typeface="Arial Rounded MT Bold"/>
              </a:rPr>
              <a:t>......</a:t>
            </a:r>
            <a:r>
              <a:rPr b="1" lang="zh-CN" sz="3600" spc="-1" strike="noStrike">
                <a:solidFill>
                  <a:srgbClr val="000000"/>
                </a:solidFill>
                <a:latin typeface="Arial Rounded MT Bold"/>
              </a:rPr>
              <a:t>直到你必须做出一生中最艰难也是最果决的选择：你只能留下一样，其余全部放弃！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zh-CN" sz="3600" spc="-1" strike="noStrike">
                <a:solidFill>
                  <a:srgbClr val="008000"/>
                </a:solidFill>
                <a:latin typeface="Arial Rounded MT Bold"/>
              </a:rPr>
              <a:t>是的，这就是你生命中最宝贵的东西！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6360" y="1886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760" y="148608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Rounded MT Bold"/>
              </a:rPr>
              <a:t>被涂掉的顺序就是你心目中划分的主次台阶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Rounded MT Bold"/>
              </a:rPr>
              <a:t>好好记住这个顺序吧，如果在生活中遇到无所适从的时候，不妨用头脑中的打印机，把这张纸无形地打印出来。也许，奇迹就会发生，你的答案也就顺滑地诞生出来了。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6:50:38Z</dcterms:created>
  <dc:creator>liuyan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